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6878-6016-4A7A-AEC1-FA82AE0D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9049-0A13-4449-B560-3E161CFA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6592-B70F-4CAE-88EC-E35DE498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0129-5FB1-434D-A7D7-5FBBF645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D1CB-FD59-48AE-B643-E6E3E1B8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BDC-1691-4A17-82B5-89A70703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5964-B4AE-4E98-9170-79724A5D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841-74E6-4199-B303-5873BE70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F456-D908-42A7-933D-7C428279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2E69-EE78-447D-BE2A-6DD1B499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DCBD-D9D1-4029-9784-F0FACE32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E9A-BE58-43EA-A2C4-D9939347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6EE60-3DCB-499D-9C54-5C601B721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ys'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168200"/>
            <a:ext cx="9070920" cy="6189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trait of Daniel Shays and Job Shattuck, two of the leaders of the rebell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8480" y="1828800"/>
            <a:ext cx="65311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90709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id the rebellion take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 1786 to early 17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teful attack on the Springfield Armory was on January 25, 178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id it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ern Massachuse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4114800"/>
            <a:ext cx="5257800" cy="2971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486400" y="4114800"/>
            <a:ext cx="45943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9920" y="228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hy did Shays and other farmers rebe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Revolutionary War, Massachusetts raised property taxes to pay off debt from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inflation made the paper money issued by the state nearly worth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who could not pay the taxes were put in debtors' prison and had their land se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alifications for voting were raised, so that you had to own land to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at methods of rebellion did they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sts against tax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courthouses so that debt hearings could not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ke into jails to let out indebted fa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d to seize weapons from the state armory, with the intention of then attacking Bo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50760"/>
            <a:ext cx="9118440" cy="20066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ow did political and business leaders respond to Shays’ Rebellio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418680" indent="-313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scared that this rebellion could lead to another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achusetts state legislature (at Sam Adams urging) passed new strict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278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ot Act:  banned public meetings at which any mention of rebellion was being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278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ned all speech critical of the gov'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278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d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beus Corp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llowed for people to be put in jail without charges or a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and business leaders from Boston raised a militia to go and put down the rebell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hat changes to U.S. government  did Shays’ Rebellion help bring abou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9920" y="20574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Shays' Rebellion was quickly put down, it scared national leaders like Georg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felt that there should be a stronger central government to deal with future rebel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a stronger central government would prevent states (like Mass.) from enacting bad laws like those Shays had protes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after Shays'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itutional Convention called in Philadelphia in 1787 to re-work the Articles of Con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legates quickly decide to scrap the Articles and create a whole new plan of gov'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ederal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ike John Adams, James Madison, and Alexander Hamilton) want a much stronger central gov'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i-Federal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posed this idea, out of fear that a stronger central gov't could lead to tyranny (like what they had just fought against in the Revolutionary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much debate, the Federalists basically get their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titution (the new plan of gov't) gives the central, or Federal, government much more power than the Articles of Confederation h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get enough of the Anti-Federalists to approve the Constitution, the Bill of Rights is added as a com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ll of Rights protects individual rights and freedoms from an abusive gov'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2:07:40Z</dcterms:created>
  <dc:creator/>
  <dc:description/>
  <dc:language>en-US</dc:language>
  <cp:lastModifiedBy/>
  <cp:revision>1</cp:revision>
  <dc:subject/>
  <dc:title/>
</cp:coreProperties>
</file>